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E2B-D6E1-4E9D-9EDB-2A3F2224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276-2AC8-4D10-8872-1899375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83F-08D3-4AC6-B05B-27636C24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926-708A-4F68-8C74-530B1255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5FC7-44F6-4721-B798-3E57CD1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749-99A9-4040-BAE6-D243CCB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F25-E1EB-42F4-9923-9520F05D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334-3680-4409-848D-88B44579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B8C-C2F3-464E-A69A-14066DF1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E1A-6C4A-4741-9A23-51A6F7C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CAA-A31C-4A80-A492-4012234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0DF-8CF8-4ABA-BC3C-8F67D64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4548-CED7-41F5-B809-EE56B0C7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-Mass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ar mass of any substance is the mass in grams of one mole of that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14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version:  moles to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irst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072120" cy="124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41911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5 pg 298, and do practice problems 16 and 17 into no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, you need to add the mass of each atom in the formula to get the total molar mass of a compound (see note guide 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version:  mass to m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econd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0724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6 pg 299, and do practice problems 18 and 19 into no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o not forget, you need to add the mass of each atom in the formula to get the total molar mass of a compound (see note guide 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 Road 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17:26Z</dcterms:created>
  <dc:creator>jpak</dc:creator>
  <dc:description/>
  <dc:language>en-US</dc:language>
  <cp:lastModifiedBy>Farwell Area Schools</cp:lastModifiedBy>
  <dcterms:modified xsi:type="dcterms:W3CDTF">2008-11-11T18:27:51Z</dcterms:modified>
  <cp:revision>5</cp:revision>
  <dc:subject/>
  <dc:title>Note Guide 6-2</dc:title>
</cp:coreProperties>
</file>